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8E8-F558-4F06-9C4C-5E983766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422-18DD-4F13-9A7A-28174D9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731-B34C-4AE9-96ED-EC186DD9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4B4-332A-4412-A34F-A6213595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9BF-0716-498E-A880-952B9C4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BD3-3F51-4DC1-8AEB-E5DFDDEE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EB8-B0D5-42BC-91B1-B6266FE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D42-0634-4CDB-9929-840B1F1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75F-97BF-47D2-A86C-3578319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0CE-2296-47AF-A67E-8616A03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321-068F-489F-B81F-70262AA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678-4D03-4E6A-81FD-48C1704C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06E6-53E3-44C5-95CF-378B2916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Favo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y Favor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Program Files (x86)\Microsoft Office\MEDIA\CAGCAT10\j0183290.wmf"/>
          <p:cNvPicPr/>
          <p:nvPr/>
        </p:nvPicPr>
        <p:blipFill>
          <a:blip r:embed="rId1"/>
          <a:stretch/>
        </p:blipFill>
        <p:spPr>
          <a:xfrm>
            <a:off x="7265880" y="462276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dwilliams2\AppData\Local\Microsoft\Windows\Temporary Internet Files\Content.IE5\7KA03RCJ\MC900363562[2].wmf"/>
          <p:cNvPicPr/>
          <p:nvPr/>
        </p:nvPicPr>
        <p:blipFill>
          <a:blip r:embed="rId2"/>
          <a:stretch/>
        </p:blipFill>
        <p:spPr>
          <a:xfrm>
            <a:off x="6831000" y="2535120"/>
            <a:ext cx="1800360" cy="157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dwilliams2\AppData\Local\Microsoft\Windows\Temporary Internet Files\Content.IE5\TDML042D\MP900442188[1].jpg"/>
          <p:cNvPicPr/>
          <p:nvPr/>
        </p:nvPicPr>
        <p:blipFill>
          <a:blip r:embed="rId3"/>
          <a:stretch/>
        </p:blipFill>
        <p:spPr>
          <a:xfrm>
            <a:off x="7162920" y="762120"/>
            <a:ext cx="15192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dwilliams2\AppData\Local\Microsoft\Windows\Temporary Internet Files\Content.IE5\CS9S25VO\MP900440281[1].jpg"/>
          <p:cNvPicPr/>
          <p:nvPr/>
        </p:nvPicPr>
        <p:blipFill>
          <a:blip r:embed="rId4"/>
          <a:stretch/>
        </p:blipFill>
        <p:spPr>
          <a:xfrm>
            <a:off x="5726160" y="301932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dwilliams2\AppData\Local\Microsoft\Windows\Temporary Internet Files\Content.IE5\7KA03RCJ\MC900140891[1].wmf"/>
          <p:cNvPicPr/>
          <p:nvPr/>
        </p:nvPicPr>
        <p:blipFill>
          <a:blip r:embed="rId5"/>
          <a:stretch/>
        </p:blipFill>
        <p:spPr>
          <a:xfrm>
            <a:off x="5943600" y="1905120"/>
            <a:ext cx="1400040" cy="18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dwilliams2\AppData\Local\Microsoft\Windows\Temporary Internet Files\Content.IE5\CS9S25VO\MC900444923[1].jpg"/>
          <p:cNvPicPr/>
          <p:nvPr/>
        </p:nvPicPr>
        <p:blipFill>
          <a:blip r:embed="rId6"/>
          <a:stretch/>
        </p:blipFill>
        <p:spPr>
          <a:xfrm>
            <a:off x="7192800" y="1687680"/>
            <a:ext cx="12956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dwilliams2\AppData\Local\Microsoft\Windows\Temporary Internet Files\Content.IE5\7KA03RCJ\MC900237298[1].wmf"/>
          <p:cNvPicPr/>
          <p:nvPr/>
        </p:nvPicPr>
        <p:blipFill>
          <a:blip r:embed="rId7"/>
          <a:stretch/>
        </p:blipFill>
        <p:spPr>
          <a:xfrm>
            <a:off x="5754600" y="1031760"/>
            <a:ext cx="2151000" cy="181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dwilliams2\AppData\Local\Microsoft\Windows\Temporary Internet Files\Content.IE5\TDML042D\MC900060306[1].wmf"/>
          <p:cNvPicPr/>
          <p:nvPr/>
        </p:nvPicPr>
        <p:blipFill>
          <a:blip r:embed="rId8"/>
          <a:stretch/>
        </p:blipFill>
        <p:spPr>
          <a:xfrm>
            <a:off x="4772160" y="1181160"/>
            <a:ext cx="1814400" cy="15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Program Files (x86)\Microsoft Office\MEDIA\CAGCAT10\j0183328.wmf"/>
          <p:cNvPicPr/>
          <p:nvPr/>
        </p:nvPicPr>
        <p:blipFill>
          <a:blip r:embed="rId9"/>
          <a:stretch/>
        </p:blipFill>
        <p:spPr>
          <a:xfrm>
            <a:off x="5181480" y="454356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dwilliams2\AppData\Local\Microsoft\Windows\Temporary Internet Files\Content.IE5\TDML042D\MC900295480[1].wmf"/>
          <p:cNvPicPr/>
          <p:nvPr/>
        </p:nvPicPr>
        <p:blipFill>
          <a:blip r:embed="rId10"/>
          <a:stretch/>
        </p:blipFill>
        <p:spPr>
          <a:xfrm>
            <a:off x="4829040" y="2584440"/>
            <a:ext cx="2363760" cy="15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Users\dwilliams2\AppData\Local\Microsoft\Windows\Temporary Internet Files\Content.IE5\CS9S25VO\MP900440278[1].jpg"/>
          <p:cNvPicPr/>
          <p:nvPr/>
        </p:nvPicPr>
        <p:blipFill>
          <a:blip r:embed="rId11"/>
          <a:stretch/>
        </p:blipFill>
        <p:spPr>
          <a:xfrm>
            <a:off x="4992840" y="37558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Users\dwilliams2\AppData\Local\Microsoft\Windows\Temporary Internet Files\Content.IE5\7KA03RCJ\MC900436233[1].png"/>
          <p:cNvPicPr/>
          <p:nvPr/>
        </p:nvPicPr>
        <p:blipFill>
          <a:blip r:embed="rId12"/>
          <a:stretch/>
        </p:blipFill>
        <p:spPr>
          <a:xfrm>
            <a:off x="6621480" y="1068480"/>
            <a:ext cx="2031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7:46:18Z</dcterms:created>
  <dc:creator>dell</dc:creator>
  <dc:description/>
  <dc:language>en-US</dc:language>
  <cp:lastModifiedBy>dell</cp:lastModifiedBy>
  <dcterms:modified xsi:type="dcterms:W3CDTF">2013-12-02T17:55:28Z</dcterms:modified>
  <cp:revision>2</cp:revision>
  <dc:subject/>
  <dc:title>Christmas Favorites</dc:title>
</cp:coreProperties>
</file>